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D73E-140B-44D4-B78C-C9240352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DD19-F184-41F6-8C04-6C08F17B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FB60-AAD1-4C6C-8747-FC51F5D9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AFBD-9D26-495A-B00C-3E73EFFD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DD377-AEB9-4DF7-9BF3-6037142A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7B858-B126-47B1-A2FD-1BFD4E17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191C7-6683-40AC-97B1-3D191D37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38151-63F1-4E91-B478-480E21BC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2D002-4B7E-4E29-9DE3-119BAB04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545BC-2908-4C9B-B3CE-C67D3719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2742F-AF42-4FF2-A9C2-29A89F06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1B50-803B-4F33-BA03-B1072012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07095-79D9-4003-8DDC-4A45308C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016D3-FA8F-446B-B208-78675719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D02A1-E545-447E-A8BF-FB3D340A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B74CB-E5EB-4C70-8DCE-E5998D2A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192CA-62E9-4697-B7C3-AF8D3556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7217-9D6B-4DB4-8F42-C0CD50FA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E76-C8B2-4BD2-B439-A693EC42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4F5F-14B7-4528-A15D-BF45AD68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1DE-A306-4CFD-8D1D-A4B3D730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8B4-17DF-42CF-9031-1CDDB9E9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BFD9-3BBD-4BE1-8D6F-CE512D92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D43-BAE9-4354-BC72-9A42AF4F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0B36-84B1-4D6D-9E61-5387E125B2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3EEB-EBBC-4A99-950B-0AD7DB6D93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oll_weevi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Unit III: The Progressive Movemen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77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: Social Reform: (Great Migration, Urban Poor, Women’s Rights, Workers Righ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: Political &amp; Economic Re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: Presidential Reform Efforts (Environmental Refor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6933960" cy="914400"/>
          </a:xfrm>
          <a:prstGeom prst="rect">
            <a:avLst/>
          </a:prstGeom>
          <a:solidFill>
            <a:srgbClr val="808000"/>
          </a:solidFill>
          <a:ln w="76320">
            <a:solidFill>
              <a:srgbClr val="3399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3e3ff"/>
                </a:solidFill>
                <a:uFillTx/>
                <a:latin typeface="Arial"/>
              </a:rPr>
              <a:t>D. Discrimination in the North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57200" y="1600200"/>
            <a:ext cx="4038480" cy="4495680"/>
            <a:chOff x="457200" y="1600200"/>
            <a:chExt cx="4038480" cy="44956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 txBox="1"/>
            <p:nvPr/>
          </p:nvSpPr>
          <p:spPr>
            <a:xfrm>
              <a:off x="457200" y="1600200"/>
              <a:ext cx="4038480" cy="449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e3e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218960"/>
            <a:ext cx="4038480" cy="5638680"/>
          </a:xfrm>
          <a:prstGeom prst="rect">
            <a:avLst/>
          </a:prstGeom>
          <a:solidFill>
            <a:srgbClr val="008080"/>
          </a:solidFill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Restrictive housing, living, &amp; working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Segregated into the most dilapidated (ruined) sections of the 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High prices for inferior hous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Discriminated against in the workpla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set>
                                      <p:cBhvr>
                                        <p:cTn id="25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523880"/>
          </a:xfrm>
          <a:prstGeom prst="rect">
            <a:avLst/>
          </a:prstGeom>
          <a:solidFill>
            <a:srgbClr val="008080"/>
          </a:solidFill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E. 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Fight for Civil Rights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African American ideas on improving social &amp; economic conditions of blacks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2367000" cy="3429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31120" y="57913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oker T. Washing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Image: caption follows"/>
          <p:cNvPicPr/>
          <p:nvPr/>
        </p:nvPicPr>
        <p:blipFill>
          <a:blip r:embed="rId2"/>
          <a:stretch/>
        </p:blipFill>
        <p:spPr>
          <a:xfrm>
            <a:off x="6324480" y="2514600"/>
            <a:ext cx="2140200" cy="2819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707520" y="57150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.E.B Dub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276720" y="2057400"/>
            <a:ext cx="2476440" cy="3714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507480" y="586728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cus Garv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790960"/>
          </a:xfrm>
          <a:prstGeom prst="rect">
            <a:avLst/>
          </a:prstGeom>
          <a:solidFill>
            <a:srgbClr val="008080"/>
          </a:solidFill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cus Ga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Born in Jamaica to an educated fami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founded the UNIA (Universal Negro Improvement Association) at its zenith, the UNIA claimed over a million membe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503520" cy="4191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29200" y="4632120"/>
            <a:ext cx="3770280" cy="1739880"/>
          </a:xfrm>
          <a:prstGeom prst="rect">
            <a:avLst/>
          </a:prstGeom>
          <a:solidFill>
            <a:srgbClr val="008080"/>
          </a:solidFill>
          <a:ln w="76320">
            <a:solidFill>
              <a:srgbClr val="e3e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Our success educationally, industrially and politically is bas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 the protection of a nation founded by ourselves. And the nation can be nowhere else but in Africa.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48320" y="304920"/>
            <a:ext cx="4038480" cy="5790960"/>
          </a:xfrm>
          <a:prstGeom prst="rect">
            <a:avLst/>
          </a:prstGeom>
          <a:solidFill>
            <a:srgbClr val="008080"/>
          </a:solidFill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believed Blacks should have a permanent homeland in Africa, &amp; sought to develop Liber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credited with creating the biggest pan-African movement (1920’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399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4038480" cy="5562360"/>
          </a:xfrm>
          <a:prstGeom prst="rect">
            <a:avLst/>
          </a:prstGeom>
          <a:noFill/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er T. Washing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533160"/>
            <a:ext cx="4038480" cy="5562360"/>
          </a:xfrm>
          <a:prstGeom prst="rect">
            <a:avLst/>
          </a:prstGeom>
          <a:noFill/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 on Achieving racial e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ker T. Washingt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believed that blacks should not push too hard for equal rights but to instead focus on learning vocational skills as a path to economic progr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8" descr="Booker-T-Washington-from-ppt"/>
          <p:cNvPicPr/>
          <p:nvPr/>
        </p:nvPicPr>
        <p:blipFill>
          <a:blip r:embed="rId1"/>
          <a:stretch/>
        </p:blipFill>
        <p:spPr>
          <a:xfrm>
            <a:off x="533520" y="1219320"/>
            <a:ext cx="3876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4038480" cy="5562360"/>
          </a:xfrm>
          <a:prstGeom prst="rect">
            <a:avLst/>
          </a:prstGeom>
          <a:noFill/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.E.B Dubo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533160"/>
            <a:ext cx="4038480" cy="5562360"/>
          </a:xfrm>
          <a:prstGeom prst="rect">
            <a:avLst/>
          </a:prstGeom>
          <a:noFill/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s on Achieving racial e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.E.B Dubo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believed that A.A should fight to gain equal rights, especially voting r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tarted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iagara mov’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905) which was meeting of A.A leaders in Niagara Falls, 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eventually began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AC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National Association for the Advancement of Colored People) whose goal was to fight for rights 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8" descr="dubois285"/>
          <p:cNvPicPr/>
          <p:nvPr/>
        </p:nvPicPr>
        <p:blipFill>
          <a:blip r:embed="rId1"/>
          <a:stretch/>
        </p:blipFill>
        <p:spPr>
          <a:xfrm>
            <a:off x="762120" y="1447920"/>
            <a:ext cx="3286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3e3ff"/>
                </a:solidFill>
                <a:uFillTx/>
                <a:latin typeface="Arial"/>
              </a:rPr>
              <a:t>I.The Great Migra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What was the Great Migr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What were the causes of the G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What were the effects of the G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4038480" cy="6354720"/>
          </a:xfrm>
          <a:prstGeom prst="rect">
            <a:avLst/>
          </a:prstGeom>
          <a:solidFill>
            <a:srgbClr val="003366"/>
          </a:solidFill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668520" indent="-668520">
              <a:spcBef>
                <a:spcPts val="700"/>
              </a:spcBef>
              <a:buClr>
                <a:srgbClr val="e3e3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hat was the Great Migr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Description of Great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M- the migration of 1.6 mil African-Americans from the South to the North b/t the years 1910-194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M- over 5 mil. Afr. Amer. b/t 1940-1970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40812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33840" y="3733920"/>
            <a:ext cx="4610160" cy="2936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2280" y="6477120"/>
            <a:ext cx="39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cob Lawrence’s first in his Migration series (Whitne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676520" y="0"/>
            <a:ext cx="5792760" cy="3666960"/>
            <a:chOff x="1676520" y="0"/>
            <a:chExt cx="5792760" cy="366696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1676520" y="0"/>
              <a:ext cx="5792760" cy="36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 txBox="1"/>
            <p:nvPr/>
          </p:nvSpPr>
          <p:spPr>
            <a:xfrm>
              <a:off x="1676520" y="0"/>
              <a:ext cx="5792760" cy="366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3e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4038480"/>
            <a:ext cx="8686800" cy="2819520"/>
          </a:xfrm>
          <a:prstGeom prst="rect">
            <a:avLst/>
          </a:prstGeom>
          <a:solidFill>
            <a:srgbClr val="008080"/>
          </a:solidFill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G.M created the first large, urban black communities in the Nor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North saw its black population rise about 20 percent between 1910 and 193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Chicago, Detroit, New York, and Cleveland -- biggest increas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238880" cy="609480"/>
          </a:xfrm>
          <a:prstGeom prst="rect">
            <a:avLst/>
          </a:prstGeom>
          <a:solidFill>
            <a:srgbClr val="008080"/>
          </a:solidFill>
          <a:ln w="76320">
            <a:solidFill>
              <a:srgbClr val="e3e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II. Causes of the G.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038480" cy="5943600"/>
          </a:xfrm>
          <a:prstGeom prst="rect">
            <a:avLst/>
          </a:prstGeom>
          <a:solidFill>
            <a:srgbClr val="008080"/>
          </a:solidFill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sh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scape the problems of racism in the Sou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 Legal &amp; Social Discri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"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Jim Crow" Law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gregation, poll taxes, examinations, property qualifications, &amp; grandfather clauses limiting the ability of blacks to vote.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105520" y="914400"/>
            <a:ext cx="3236760" cy="5029200"/>
            <a:chOff x="5105520" y="914400"/>
            <a:chExt cx="3236760" cy="502920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105520" y="914400"/>
              <a:ext cx="323676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 txBox="1"/>
            <p:nvPr/>
          </p:nvSpPr>
          <p:spPr>
            <a:xfrm>
              <a:off x="5105520" y="914400"/>
              <a:ext cx="3236760" cy="50292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e3e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set>
                                      <p:cBhvr>
                                        <p:cTn id="9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48320" y="304920"/>
            <a:ext cx="4038480" cy="5790960"/>
          </a:xfrm>
          <a:prstGeom prst="rect">
            <a:avLst/>
          </a:prstGeom>
          <a:solidFill>
            <a:srgbClr val="008080"/>
          </a:solidFill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Laws requiring separate public ameniti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Plessy V. Fergus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Ku Klux Klan- Lynching &amp; the social institutions of rac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ur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blacks were not afforded the same legal protection as whites &amp; they had little access to legal defen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286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7391520"/>
          </a:xfrm>
          <a:prstGeom prst="rect">
            <a:avLst/>
          </a:prstGeom>
          <a:solidFill>
            <a:srgbClr val="008080"/>
          </a:solidFill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ll: Economic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 Opportunities higher wages from railroads &amp; facto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 The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boll weevil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infestation of Southern cotton fields in the late 1910s forced many sharecroppers to search for alternative employment opportunit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191120" y="762120"/>
            <a:ext cx="4952880" cy="4525920"/>
            <a:chOff x="4191120" y="762120"/>
            <a:chExt cx="4952880" cy="452592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4191120" y="762120"/>
              <a:ext cx="49528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4191120" y="762120"/>
              <a:ext cx="49528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533520" indent="-533520">
                <a:lnSpc>
                  <a:spcPct val="90000"/>
                </a:lnSpc>
                <a:spcBef>
                  <a:spcPts val="601"/>
                </a:spcBef>
                <a:buClr>
                  <a:srgbClr val="e3e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7391520"/>
          </a:xfrm>
          <a:prstGeom prst="rect">
            <a:avLst/>
          </a:prstGeom>
          <a:solidFill>
            <a:srgbClr val="008080"/>
          </a:solidFill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 war industries created new jobs in the service jobs that new factory workers vac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Great Mississippi Flood of 1927 displaced hundreds of thousands of African-American farmers &amp; farm work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191120" y="762120"/>
            <a:ext cx="4952880" cy="4525920"/>
            <a:chOff x="4191120" y="762120"/>
            <a:chExt cx="4952880" cy="452592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4191120" y="762120"/>
              <a:ext cx="49528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 txBox="1"/>
            <p:nvPr/>
          </p:nvSpPr>
          <p:spPr>
            <a:xfrm>
              <a:off x="4191120" y="762120"/>
              <a:ext cx="49528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533520" indent="-533520">
                <a:lnSpc>
                  <a:spcPct val="90000"/>
                </a:lnSpc>
                <a:spcBef>
                  <a:spcPts val="499"/>
                </a:spcBef>
                <a:buClr>
                  <a:srgbClr val="e3e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339966"/>
          </a:solidFill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3ff"/>
                </a:solidFill>
                <a:uFillTx/>
                <a:latin typeface="Arial"/>
              </a:rPr>
              <a:t>C. Chicago Defen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solidFill>
            <a:srgbClr val="008080"/>
          </a:solidFill>
          <a:ln w="76320">
            <a:solidFill>
              <a:srgbClr val="e3e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1905 most influential of African American newspa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printed photographs, cartoons &amp; even poems about the advantages of moving nor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Writers generated "moving fever," by sending letters &amp; money to fam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648320" y="1600200"/>
            <a:ext cx="4038480" cy="4495680"/>
            <a:chOff x="4648320" y="1600200"/>
            <a:chExt cx="4038480" cy="449568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 txBox="1"/>
            <p:nvPr/>
          </p:nvSpPr>
          <p:spPr>
            <a:xfrm>
              <a:off x="4648320" y="1600200"/>
              <a:ext cx="4038480" cy="449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e3e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6:36:36Z</dcterms:created>
  <dc:creator>Gerald Autler</dc:creator>
  <dc:description/>
  <dc:language>en-US</dc:language>
  <cp:lastModifiedBy>Mark Greer</cp:lastModifiedBy>
  <dcterms:modified xsi:type="dcterms:W3CDTF">2010-11-18T02:45:39Z</dcterms:modified>
  <cp:revision>26</cp:revision>
  <dc:subject/>
  <dc:title>The Great Migration</dc:title>
</cp:coreProperties>
</file>